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DF2-D3BC-4923-BA3A-538AAA7C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9F9-59A7-40FE-80C7-0727AC63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C84-E9EC-412B-AE67-90AA7C6D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A38-661F-4F34-9F6D-7F53FD5F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3A13-5ACF-4C10-805D-24D5F51C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D57C-A25E-43C2-800C-9DCD4ACC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E38D-EF73-4799-A1FE-C636A79B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9C2D-5898-423A-8DB7-CF031D64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21BF-5B3B-4409-B944-6D58A60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7D70-6CC4-4BFD-87A2-A0917177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EFFF-7991-4B21-B51F-AE000326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0A1-FA99-42C0-9E80-6D370ADA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FFD2-D681-47D0-91F9-36182129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1244-DDD2-494A-A3B1-F1106E42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9D2B-F929-463A-B5F1-526BA8B9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7723-1C4E-443E-A316-98277E37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2D20-01B1-43E7-A3FC-30265D73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2D3-61E5-44F7-83C3-2B6D4829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055-67F3-4E1E-8FCB-27508A78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84C-4C8B-4EAA-BD37-9ED41EDC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28F-2DEC-4645-9864-4202B8A2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BDA-FC0F-4489-9A0E-77B41942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9E0-C6B5-485C-B1C0-0079CF8B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697-6C4D-4D55-B641-CBD37B17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0D61-7B14-485B-9EDF-F91618A439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349D-FC41-45D9-8758-D6597178BB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HSP 3M - Unit 3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stitutions –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. D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800" y="5867280"/>
            <a:ext cx="88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n, C.M., &amp; Colyer, J.S. (2001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Human w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oronto: Oxford University Pr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dustrial Revolution (</a:t>
            </a:r>
            <a:r>
              <a:rPr b="1" lang="en-US" sz="1800" spc="-1" strike="noStrike">
                <a:solidFill>
                  <a:srgbClr val="006633"/>
                </a:solidFill>
                <a:latin typeface="Garamond"/>
              </a:rPr>
              <a:t>beginning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1850s UK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ch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m power increased production 100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 Watts (1760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ntralization, specialization and mass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ttage industry (whole products) to factories (compon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y lin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only perform one specialized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ge lab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ow sell labour for wage not dependent on 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poor work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to rise of labour u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dustrial Revolution (</a:t>
            </a:r>
            <a:r>
              <a:rPr b="1" lang="en-US" sz="1800" spc="-1" strike="noStrike">
                <a:solidFill>
                  <a:srgbClr val="006633"/>
                </a:solidFill>
                <a:latin typeface="Garamond"/>
              </a:rPr>
              <a:t>beginning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1850s UK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unite to fight for the interests of the collective – (all work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w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work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ork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tter standards of living, quality of life and international tra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pluse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ve trade between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s now have more rights under industrial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labour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rights for 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public sch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133720"/>
            <a:ext cx="733320" cy="1981080"/>
          </a:xfrm>
          <a:custGeom>
            <a:avLst/>
            <a:gdLst>
              <a:gd name="textAreaLeft" fmla="*/ 98280 w 733320"/>
              <a:gd name="textAreaRight" fmla="*/ 635040 w 7333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3733920" cy="2628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622680" cy="2590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373392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029200" y="3276720"/>
            <a:ext cx="3200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he Post-Industrial Economy of the Information Ag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minent Servic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 of services more important than 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9, 74% of Canada’s labour force in servic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erical, teaching, health care, information processing, banking, commerce, sales and 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employ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5% in natur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, mining, gas, fishing, 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692680" y="1600200"/>
          <a:ext cx="19494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2680" y="1600200"/>
                    <a:ext cx="19494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n Information Rev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51055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d by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 machines (robots) reduce the need for lab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has revolutionized the way information is shared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, communication, bank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has become 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cost of a CD is to the artist, the shipping, the retail, not in the production of the CD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3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00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 Global Econom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s and information cross national borders with few restr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shirt was designed in Italy, made in China from cotton grown in Africa, and finished in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s can be manufactured for very c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gence – merging of a variety of communication technologi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paper, radio, television, telephone now in one medium -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lyn Waring’s book “Who’s Counting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 global economies don’t count unpaid work, largely done by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criticisms of the global econom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damage and human rights abuses are also not counted in the global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or working conditions of the industrial revolution have simply been shifted to other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Econom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onom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social i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organizes the production, distribution and consumption of goods and services in a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on of good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goods and services are delivered to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e of good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Economy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95280" y="1447200"/>
            <a:ext cx="7157520" cy="3655080"/>
            <a:chOff x="1295280" y="1447200"/>
            <a:chExt cx="7157520" cy="3655080"/>
          </a:xfrm>
        </p:grpSpPr>
        <p:sp>
          <p:nvSpPr>
            <p:cNvPr id="94" name=""/>
            <p:cNvSpPr/>
            <p:nvPr/>
          </p:nvSpPr>
          <p:spPr>
            <a:xfrm>
              <a:off x="1295280" y="1447200"/>
              <a:ext cx="2284200" cy="3655080"/>
            </a:xfrm>
            <a:custGeom>
              <a:avLst/>
              <a:gdLst>
                <a:gd name="textAreaLeft" fmla="*/ 111240 w 2284200"/>
                <a:gd name="textAreaRight" fmla="*/ 2172960 w 2284200"/>
                <a:gd name="textAreaTop" fmla="*/ 111240 h 3655080"/>
                <a:gd name="textAreaBottom" fmla="*/ 3543840 h 3655080"/>
              </a:gdLst>
              <a:ahLst/>
              <a:rect l="textAreaLeft" t="textAreaTop" r="textAreaRight" b="textAreaBottom"/>
              <a:pathLst>
                <a:path w="21600" h="34561">
                  <a:moveTo>
                    <a:pt x="3600" y="0"/>
                  </a:moveTo>
                  <a:arcTo wR="3600" hR="3600" stAng="16200000" swAng="-5400000"/>
                  <a:lnTo>
                    <a:pt x="0" y="30961"/>
                  </a:lnTo>
                  <a:arcTo wR="3600" hR="3600" stAng="10800000" swAng="-5400000"/>
                  <a:lnTo>
                    <a:pt x="18000" y="3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b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pital equip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tural 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3520" y="1752120"/>
              <a:ext cx="1522800" cy="914040"/>
            </a:xfrm>
            <a:prstGeom prst="flowChartAlternateProcess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ction 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30000" y="1752120"/>
              <a:ext cx="1522800" cy="914040"/>
            </a:xfrm>
            <a:prstGeom prst="flowChartAlternateProcess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oods and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5800" y="3884040"/>
              <a:ext cx="1522800" cy="914040"/>
            </a:xfrm>
            <a:prstGeom prst="flowChartAlternateProcess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88600" y="3884040"/>
              <a:ext cx="1522800" cy="914040"/>
            </a:xfrm>
            <a:prstGeom prst="flowChartAlternateProcess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k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1760" y="2208960"/>
              <a:ext cx="609120" cy="151920"/>
            </a:xfrm>
            <a:prstGeom prst="rightArrow">
              <a:avLst>
                <a:gd name="adj1" fmla="val 50000"/>
                <a:gd name="adj2" fmla="val 10023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4040" y="4188240"/>
              <a:ext cx="609120" cy="152640"/>
            </a:xfrm>
            <a:prstGeom prst="rightArrow">
              <a:avLst>
                <a:gd name="adj1" fmla="val 50000"/>
                <a:gd name="adj2" fmla="val 99764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68600" y="2208960"/>
              <a:ext cx="609120" cy="151920"/>
            </a:xfrm>
            <a:prstGeom prst="rightArrow">
              <a:avLst>
                <a:gd name="adj1" fmla="val 50000"/>
                <a:gd name="adj2" fmla="val 10023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257400">
              <a:off x="5268960" y="3188520"/>
              <a:ext cx="2568960" cy="162720"/>
            </a:xfrm>
            <a:prstGeom prst="rightArrow">
              <a:avLst>
                <a:gd name="adj1" fmla="val 50000"/>
                <a:gd name="adj2" fmla="val 394690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42960" y="809640"/>
            <a:ext cx="6058080" cy="523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71600" y="1905120"/>
            <a:ext cx="6553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rief History of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3581280" cy="2602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724280" y="3352680"/>
            <a:ext cx="35816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unting and Gathering Socie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madic groups of 20-50 related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ion, distribution and consumption part of family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” is what had to be done to ensure 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tle or no surplus produ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bsistenc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39120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3809880" cy="2609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4419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Agricultural Rev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000 – 10 000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ed animals and cultivate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surplus for first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uraged permanent sett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ized division of lab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icrafts were created and tr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llages and towns r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” is now more specialized and more often done away from the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835440" cy="5410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52880" y="685800"/>
            <a:ext cx="3562560" cy="2652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952880" y="3505320"/>
            <a:ext cx="3524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0:25:12Z</dcterms:created>
  <dc:creator>The Owner</dc:creator>
  <dc:description/>
  <dc:language>en-US</dc:language>
  <cp:lastModifiedBy>Customer</cp:lastModifiedBy>
  <dcterms:modified xsi:type="dcterms:W3CDTF">2010-11-22T19:06:33Z</dcterms:modified>
  <cp:revision>4</cp:revision>
  <dc:subject/>
  <dc:title>HSP 3M - Unit 3</dc:title>
</cp:coreProperties>
</file>